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601-CD9B-4BCB-A711-8BFCB54E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F62-5930-4D3B-BAEC-5FD83AE8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B4C-A4D0-4B83-A7F2-AB1D2172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CDB-9A3F-402D-A27F-BA21C32B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F3B-901D-4E78-A61F-B1A30E11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BF5-7D8A-44FF-B1D8-E51DD7D9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E64-6C1F-4447-97FA-2E276E7F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A0C-C34D-41E3-9716-B78C57C8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C71-469B-4250-A0A5-6A6DA15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840-336E-41F1-ADCF-C713A76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9EE-8914-46E4-B3D0-13B46A0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4AD-2D0A-4DDD-B775-DE980B6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997E-7E59-4172-A020-6E91B6244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ice-in-wonderland.net/school/alice1019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5" descr="bird.jpeg"/>
          <p:cNvPicPr/>
          <p:nvPr/>
        </p:nvPicPr>
        <p:blipFill>
          <a:blip r:embed="rId1"/>
          <a:stretch/>
        </p:blipFill>
        <p:spPr>
          <a:xfrm>
            <a:off x="533520" y="304920"/>
            <a:ext cx="7823160" cy="64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ice in Wonderland on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Jabberwoc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very pretty," [Alice] said when she had finished it, "but it's rather hard to understand! ... Somehow it seems to fill my head with ideas--only I don't exactly know what they are!"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arroll The Annotated Alice 1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ice and Humpty Dump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2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 discusses the poem with Humpty Dumpty in the book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Looking Glas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at's enough to begin with," Humpty Dumpty interrupted: "there are plenty of hard words there. 'Brillig' means four o' clock in the afternoon--the time when you begin broiling things for dinner."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at'll do very well," said Alice: "and 'slithy'?"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ell, 'slithy' means 'lithe and slimy,' 'Lithe' is the same as 'active.' You see it's like a portmanteau--there are two meanings packed up into one word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bberwocky by Lewis Carro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7524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as brillig, and the slithy to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Did gyre and gimble in the wab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imsy were the borog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the mome raths outgra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Beware the Jabberwock, my son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ws that bite, the claws that catch!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ware the Jubjub bird, and shu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umious Bandersnatch!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ook his vorpal sword in han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Long time the manxome foe he sought 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rested he by the Tumtum tre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stood awhile in thou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49568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as in uffish thought he stoo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The Jabberwock, with eyes of flam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whiffling through the tulgey woo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burbled as it cam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, two! One, two! And through and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The vorpal blade went snicker-snack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left it dead, and with its hea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He went galumphing bac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nd, has thou slain the Jabberwock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Come to my arms, my beamish boy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frabjous day! Callooh! Callay!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He chortled in his jo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Twas brillig, and the slithy to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Did gyre and gimble in the wab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imsy were the borogov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And the mome raths outgrab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ogo.jpeg"/>
          <p:cNvPicPr/>
          <p:nvPr/>
        </p:nvPicPr>
        <p:blipFill>
          <a:blip r:embed="rId1"/>
          <a:stretch/>
        </p:blipFill>
        <p:spPr>
          <a:xfrm>
            <a:off x="1295280" y="152280"/>
            <a:ext cx="563904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6:46:56Z</dcterms:created>
  <dc:creator>MASONJ</dc:creator>
  <dc:description/>
  <dc:language>en-US</dc:language>
  <cp:lastModifiedBy>MASONJ</cp:lastModifiedBy>
  <dcterms:modified xsi:type="dcterms:W3CDTF">2012-03-07T16:27:49Z</dcterms:modified>
  <cp:revision>3</cp:revision>
  <dc:subject/>
  <dc:title>Slide 1</dc:title>
</cp:coreProperties>
</file>